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D221-7462-4A84-9E7C-BD7D056A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890A-3536-4FDE-A17E-AFEB0F68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0C12-FC00-40F8-8FFB-98EB1E40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AF90-F2F6-4650-B66F-7D8D4456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930B-51D1-4193-AB53-951CC7DC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B4C1-0A16-4F95-949B-BDDC5581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AE3-1F21-4143-BEC4-DE3EB842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6E35-C658-4B06-B551-30D78B75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7C61-48B2-41C7-8257-0E7B632D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A0E6-1676-4442-8052-A0322EA4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7D4-FBA6-4FC6-B8C3-9CDD8CFC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260-9F91-4BB0-B316-E755DD0C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438E-91B8-46D6-BF54-C344ED8E1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 Optimized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-Reza Adl-Tabatabai and Thomas Gross,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ource-Level Debugging of Scalar Optimized Cod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PLDI ’9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-Chun Wu, Rajiv Mirani, Harish Patil, Bruce Olsen, Wen-mei W. Hwu,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 New Framework for Debugging Globally Optimized Cod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PLDI ’9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14840" y="2112840"/>
            <a:ext cx="697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rew Gilpin, Rebecca Hutchin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bruary 22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angered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68960" y="17524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0: x=u-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360" y="464832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kp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2: x=y+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kp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2905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1: x=y+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80080" y="28288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3: x=y+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kp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08480" y="1685880"/>
            <a:ext cx="1904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36880" y="2905200"/>
            <a:ext cx="19047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03760" y="2828880"/>
            <a:ext cx="19810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4648320"/>
            <a:ext cx="198144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1" idx="2"/>
            <a:endCxn id="112" idx="0"/>
          </p:cNvCxnSpPr>
          <p:nvPr/>
        </p:nvCxnSpPr>
        <p:spPr>
          <a:xfrm flipH="1">
            <a:off x="2989080" y="2371680"/>
            <a:ext cx="13723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2" idx="2"/>
            <a:endCxn id="114" idx="0"/>
          </p:cNvCxnSpPr>
          <p:nvPr/>
        </p:nvCxnSpPr>
        <p:spPr>
          <a:xfrm>
            <a:off x="2989080" y="3438000"/>
            <a:ext cx="1354680" cy="121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3" idx="2"/>
            <a:endCxn id="114" idx="0"/>
          </p:cNvCxnSpPr>
          <p:nvPr/>
        </p:nvCxnSpPr>
        <p:spPr>
          <a:xfrm flipH="1">
            <a:off x="4342680" y="3666960"/>
            <a:ext cx="1351800" cy="98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1" idx="2"/>
            <a:endCxn id="113" idx="0"/>
          </p:cNvCxnSpPr>
          <p:nvPr/>
        </p:nvCxnSpPr>
        <p:spPr>
          <a:xfrm>
            <a:off x="4361040" y="2371680"/>
            <a:ext cx="1334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5277960" y="510552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ll hoist r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6720" y="3209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51320" y="4419720"/>
            <a:ext cx="36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x is suspect (some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hoist rea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44920" y="5456160"/>
            <a:ext cx="32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x is current (no pa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hoist rea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525780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18680" y="278928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 hoist r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05800" y="3209760"/>
            <a:ext cx="23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 is n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all paths ho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6600" y="4267080"/>
            <a:ext cx="358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on AND Inter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sses: if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 -&gt; susp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optimization, also annotate expressions that replace variables with a reference to the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use this info to recover the expected value of the variable even if it has been de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cannot get the expected value, we can still give the user the actual value with a warning if the variable is endang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loca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: Given a source statement, where should we set the breakpoi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de might be reor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de might be elimin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de might be dupli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ramework described in this paper also handles the data-valu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-Chun Wu, Rajiv Mirani, Harish Patil, Bruce Olsen, Wen-mei W. Hwu,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 New Framework for Debugging Globally Optimized Cod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PLDI ’9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ic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3640" y="4952880"/>
            <a:ext cx="80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calculate interception points and finish poi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confirm a source breakpoi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correctly perform forward recove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38240" y="1279440"/>
            <a:ext cx="8867520" cy="2761200"/>
            <a:chOff x="138240" y="1279440"/>
            <a:chExt cx="8867520" cy="276120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138240" y="1689120"/>
              <a:ext cx="886752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565680" y="1279440"/>
              <a:ext cx="234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Interception 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96080" y="1660680"/>
              <a:ext cx="60984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02000" y="3641760"/>
              <a:ext cx="157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Finish 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7848720" y="3412800"/>
              <a:ext cx="4572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-155880" y="3962520"/>
            <a:ext cx="91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rception poi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where normal execution is susp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nish poi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where forward recovery 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chor, interception, and finish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chor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pping from source line to object code location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ly, anchor point of a source statement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set to the first instruction of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chor point (along with anchor condition) is maintained during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anchor point ha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nchor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anchor point, can compute interception and finish points using data-flow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ckward data-flow for interceptio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ward data-flow for finish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location proble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1638360"/>
            <a:ext cx="6581880" cy="4914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05440" y="3063960"/>
            <a:ext cx="22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chor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S3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ition r1&gt;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171840" y="3200040"/>
            <a:ext cx="7621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84640" y="1569960"/>
            <a:ext cx="195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s of 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562720" y="1905120"/>
            <a:ext cx="1371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562720" y="2057400"/>
            <a:ext cx="13716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99120" y="4495680"/>
            <a:ext cx="185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sh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172200" y="48006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ward 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pose we set a breakpoint at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n interception point is reached, debugger scans forward and emulates only those instructions that correspond to statements preceding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ops when the finish point is reac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ward recovery: Confirming break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n anchor point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reached during forward recove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condition of the anchor point is true, report the breakpoint to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wise, the breakpoint does not really occur so do not report it to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user continues from breakpoi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second pass over emulated region, selectively executing those instructions not executed in the first 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gister allocation and function calls within emulated region complicate this significa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be solved u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hange recor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see paper for detai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cuss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ques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 you know any debuggers that work with optimized co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ones? Why aren’t they more preval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re advantages/drawbacks of the approach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data-value recovery always poss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other user-level features should a debugger suppor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 is debugging optimized code import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 is debugging optimized code difficul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icates mapping between source and object code (Code location probl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s reporting values of source variables inconsistent/impossible (Data-value probl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ill discuss various approaches to these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mary paper: Main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us is on data-valu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ompose into 2 core transfor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otate IR during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ct endangered variables with dataflow analyses on instruction-level repres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form recovery – try to reconstruct expected values from other runtime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mary paper: Main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us is on data-valu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ompose into 2 core transfor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otate IR during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ct endangered variables with dataflow analyses on instruction-level repres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form recovery – try to reconstruct expected values from other runtime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-value problem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5600" y="17524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1676520"/>
            <a:ext cx="1524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358128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350532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63800" y="25909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niti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38680" y="2514600"/>
            <a:ext cx="1828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3960" y="259092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251460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11680" y="358128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35053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6600" y="45720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44956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7600" y="457200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ang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4495680"/>
            <a:ext cx="16765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68880" y="57150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p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5638680"/>
            <a:ext cx="15238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4680" y="571500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87480" y="5638680"/>
            <a:ext cx="17524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52" idx="2"/>
            <a:endCxn id="58" idx="0"/>
          </p:cNvCxnSpPr>
          <p:nvPr/>
        </p:nvCxnSpPr>
        <p:spPr>
          <a:xfrm flipH="1">
            <a:off x="4037760" y="2285640"/>
            <a:ext cx="12200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2" idx="2"/>
            <a:endCxn id="56" idx="0"/>
          </p:cNvCxnSpPr>
          <p:nvPr/>
        </p:nvCxnSpPr>
        <p:spPr>
          <a:xfrm>
            <a:off x="5257800" y="228564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8" idx="2"/>
            <a:endCxn id="54" idx="0"/>
          </p:cNvCxnSpPr>
          <p:nvPr/>
        </p:nvCxnSpPr>
        <p:spPr>
          <a:xfrm flipH="1">
            <a:off x="3276360" y="3123720"/>
            <a:ext cx="7624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endCxn id="60" idx="0"/>
          </p:cNvCxnSpPr>
          <p:nvPr/>
        </p:nvCxnSpPr>
        <p:spPr>
          <a:xfrm>
            <a:off x="4038120" y="3123720"/>
            <a:ext cx="1639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4" idx="2"/>
            <a:endCxn id="64" idx="0"/>
          </p:cNvCxnSpPr>
          <p:nvPr/>
        </p:nvCxnSpPr>
        <p:spPr>
          <a:xfrm flipH="1">
            <a:off x="2361960" y="4114800"/>
            <a:ext cx="9151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4" idx="2"/>
            <a:endCxn id="62" idx="0"/>
          </p:cNvCxnSpPr>
          <p:nvPr/>
        </p:nvCxnSpPr>
        <p:spPr>
          <a:xfrm>
            <a:off x="3276360" y="4114800"/>
            <a:ext cx="15246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4" idx="2"/>
            <a:endCxn id="68" idx="0"/>
          </p:cNvCxnSpPr>
          <p:nvPr/>
        </p:nvCxnSpPr>
        <p:spPr>
          <a:xfrm flipH="1">
            <a:off x="1863000" y="5105160"/>
            <a:ext cx="49932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4" idx="2"/>
            <a:endCxn id="66" idx="0"/>
          </p:cNvCxnSpPr>
          <p:nvPr/>
        </p:nvCxnSpPr>
        <p:spPr>
          <a:xfrm>
            <a:off x="2362320" y="5105160"/>
            <a:ext cx="16768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0" y="4191120"/>
            <a:ext cx="7467480" cy="25146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120" y="22096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is pa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cuse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8" idx="2"/>
            <a:endCxn id="77" idx="1"/>
          </p:cNvCxnSpPr>
          <p:nvPr/>
        </p:nvCxnSpPr>
        <p:spPr>
          <a:xfrm flipH="1">
            <a:off x="1093320" y="3032280"/>
            <a:ext cx="224640" cy="151344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854680" y="5029200"/>
            <a:ext cx="29451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ce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ctu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s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pec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2160" y="190512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0: x=u-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27520" y="461160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kp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2: x=y+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kp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40080" y="3057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1: x=y+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83280" y="298116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3: x=y+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kp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11320" y="183816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39720" y="3057480"/>
            <a:ext cx="1905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06960" y="2981160"/>
            <a:ext cx="19810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51200" y="4611600"/>
            <a:ext cx="198108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6" idx="2"/>
            <a:endCxn id="87" idx="0"/>
          </p:cNvCxnSpPr>
          <p:nvPr/>
        </p:nvCxnSpPr>
        <p:spPr>
          <a:xfrm flipH="1">
            <a:off x="2491920" y="2523960"/>
            <a:ext cx="13723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7" idx="2"/>
            <a:endCxn id="89" idx="0"/>
          </p:cNvCxnSpPr>
          <p:nvPr/>
        </p:nvCxnSpPr>
        <p:spPr>
          <a:xfrm>
            <a:off x="2491920" y="3590640"/>
            <a:ext cx="1350360" cy="102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2"/>
            <a:endCxn id="89" idx="0"/>
          </p:cNvCxnSpPr>
          <p:nvPr/>
        </p:nvCxnSpPr>
        <p:spPr>
          <a:xfrm flipH="1">
            <a:off x="3841560" y="3819600"/>
            <a:ext cx="135576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6" idx="2"/>
            <a:endCxn id="88" idx="0"/>
          </p:cNvCxnSpPr>
          <p:nvPr/>
        </p:nvCxnSpPr>
        <p:spPr>
          <a:xfrm>
            <a:off x="3863880" y="2523960"/>
            <a:ext cx="1334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6329880" y="298116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ert 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50280" y="49626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ete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84160" y="336240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 is n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35520" y="458136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x is susp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51360" y="541980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x is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27520" y="52214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e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de hoi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ad code eli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optimizations cast in these ter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SE inserts code – code ho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 deletes available and dead assignments – dead cod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notating the IR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R nodes annotated with relevan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k expressions as hoisted or sunk during code inse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lace deleted expressions with marker nodes telling whether dead or available during code del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nfo is used in the Gen[] and Kill[] sets in the dataflow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flow analy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ilar to reaching defini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ist reach (of an assignment expression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sentially, the section of code where E is endang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ted by computations of E that have been hoi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lled by any eliminated redundant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ne twice – once with union and once with inter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ad reach (of a vari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ilar to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9:31:10Z</dcterms:created>
  <dc:creator>andrew</dc:creator>
  <dc:description/>
  <dc:language>en-US</dc:language>
  <cp:lastModifiedBy>andrew</cp:lastModifiedBy>
  <dcterms:modified xsi:type="dcterms:W3CDTF">2005-02-22T13:57:33Z</dcterms:modified>
  <cp:revision>49</cp:revision>
  <dc:subject/>
  <dc:title>Debugging Optimized Code</dc:title>
</cp:coreProperties>
</file>